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861-AC03-49DE-B1EC-6F3A9FF5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3340-4ABD-476A-801F-610C9AD7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5D8-45B9-4AFC-8638-78C99022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DF3A-046E-4175-9A89-FC119A22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43E-374E-4180-8D97-6D24F2A8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AEE-CDD9-4326-85DC-60904E1B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F266-A0BC-441C-90CB-FD09404D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5ED6-1AA5-44FE-9FB0-D846D5F8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BD8-BA1D-47C0-A745-50F2285B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034-7969-46E1-A1EF-2C447A3A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F23-03D8-4EF9-B8B7-FCA7E40B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BA8A-8735-40D7-909E-C7874ED5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8944-D5D4-4C70-A653-A1B298F44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 guide 4-2 Covalent Bonds—Da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666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wo nonmetals bond?  Yes     They bond coval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447920"/>
            <a:ext cx="86104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alent Bond = bond in which two atoms share a pair of valence electron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one pair of valence electrons shared = single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Hydrogen – has 1 valence electron, wants 2 to be stable, so it shares with another hydrogen. Draw fig. 9 p. 1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Flou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43434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drawing, use dots for electrons, then convert to a line to represent each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lecules – neutral group of atoms that are joined together by one or more covalent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0574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ydrogen molecule neutral because it now has 2 protons and 2 electrons shared.  So why do they stay 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971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ion between the shared electrons and the protons in each nucleus hold the atoms together in a covalent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809880"/>
            <a:ext cx="838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hat does the chemical formula look like?  Just like an ionic bond …..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two atoms of Hyd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5720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ny nonmetals exist as diatomic (two atoms)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 Covalent Bond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952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99072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nonmetals can not share just one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Nitrogen – 5 valence electrons each…try to share a pair, but that only gives them 6….not stable (need 8)…so what nex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2096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share more than one pair!  Ok…so do they share 2 pair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5146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ing 2 electron pairs gives them 7 each…..NO!  So they need to share 3 electron pairs, which gives them stability 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3276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ultiple covalent bonds are called double and triple bond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358128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hared pair is represented by da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shared pair =  1 dash = single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shared pair =  2 dashes = double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shared pair = 3 dashes = triple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drawing multiple covalent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raw each symbol and dot the valence electrons for the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rial and error the amount of shared electrons necessary between the ato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26668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hen sure each atom has 8 valence electrons, count up the number of shared pairs and replace with d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809880"/>
            <a:ext cx="815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01:21:12Z</dcterms:created>
  <dc:creator>jpak</dc:creator>
  <dc:description/>
  <dc:language>en-US</dc:language>
  <cp:lastModifiedBy>Farwell Area Schools</cp:lastModifiedBy>
  <dcterms:modified xsi:type="dcterms:W3CDTF">2009-02-08T19:41:06Z</dcterms:modified>
  <cp:revision>18</cp:revision>
  <dc:subject/>
  <dc:title>Note guide 4-2 Covalent Bonds</dc:title>
</cp:coreProperties>
</file>